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5CB7-5358-44C8-B268-9D2DD7FB5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 к уроку № 1 по тем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Десятичная система счис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 к уроку № 1 по тем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Десятичная система счис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 к уроку № 1 по тем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Десятичная система счис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 к уроку № 1 по тем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Десятичная система счис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635-E2EC-4E72-8CD4-B2E6FBA1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C11-F486-4F96-8AA6-394D0D2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41B-7739-4B93-826E-34B72374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E5A-CCEE-46A4-9F3B-BC3B0CA1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AE3-74E5-49A1-BE82-F0B0E811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7FA-0B0F-413D-9A3B-4E131979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70C-FA65-486E-A89A-E411EA5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26D-2846-4A9C-A361-0C662483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D63-BFD5-4765-BC99-0677FAB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4A2-BE42-43A6-A305-21C178E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AF8-93F0-462C-B48F-7F8B19CD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35D-97FB-4E27-BAD1-2801286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F098-056C-4A5F-982A-54A6DA2A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bfcd0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58920" y="2421000"/>
            <a:ext cx="62960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записи чисе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793800">
            <a:off x="1115640" y="9075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IIIIIIII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20674800">
            <a:off x="6227280" y="3789360"/>
            <a:ext cx="180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5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19640" y="692280"/>
            <a:ext cx="23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878787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20025000">
            <a:off x="1187280" y="4220640"/>
            <a:ext cx="21783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LXXI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83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I -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997360"/>
            <a:ext cx="571320" cy="5760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1777">
                <a:moveTo>
                  <a:pt x="3600" y="0"/>
                </a:moveTo>
                <a:arcTo wR="3600" hR="3600" stAng="16200000" swAng="-5400000"/>
                <a:lnTo>
                  <a:pt x="0" y="18177"/>
                </a:lnTo>
                <a:arcTo wR="3600" hR="3600" stAng="10800000" swAng="-5400000"/>
                <a:lnTo>
                  <a:pt x="18000" y="2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3008160"/>
            <a:ext cx="8636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440" y="3873600"/>
            <a:ext cx="7808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88960" y="3873600"/>
            <a:ext cx="8845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360" y="4711680"/>
            <a:ext cx="84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88960" y="4711680"/>
            <a:ext cx="8845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5800" y="5549760"/>
            <a:ext cx="8841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3068640"/>
            <a:ext cx="731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653000"/>
            <a:ext cx="887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3860640"/>
            <a:ext cx="73188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5445000"/>
            <a:ext cx="9410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fcd0"/>
              </a:gs>
              <a:gs pos="50000">
                <a:srgbClr val="ffffff"/>
              </a:gs>
              <a:gs pos="100000">
                <a:srgbClr val="fbfc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84320"/>
            <a:ext cx="7442280" cy="57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обытный способ  записи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9360" y="838080"/>
            <a:ext cx="10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Arial"/>
              </a:rPr>
              <a:t>II</a:t>
            </a: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 -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93960" y="83808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Arial"/>
              </a:rPr>
              <a:t>III</a:t>
            </a: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 -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35400" y="83808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Arial"/>
              </a:rPr>
              <a:t>IIIIIIIII</a:t>
            </a: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 -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68960" y="8380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Arial"/>
              </a:rPr>
              <a:t>IIIIIIIIIIIIIII</a:t>
            </a: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 -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800" y="1525680"/>
            <a:ext cx="7442280" cy="57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мская нум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080" y="2236680"/>
            <a:ext cx="117792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9240" y="2236680"/>
            <a:ext cx="129204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77360" y="2236680"/>
            <a:ext cx="128556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 -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3800" y="2236680"/>
            <a:ext cx="126540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- 5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78560" y="2236680"/>
            <a:ext cx="140436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 -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45480" y="2236680"/>
            <a:ext cx="140436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 -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2160" y="2236680"/>
            <a:ext cx="1740960" cy="576720"/>
          </a:xfrm>
          <a:prstGeom prst="roundRect">
            <a:avLst>
              <a:gd name="adj" fmla="val 16667"/>
            </a:avLst>
          </a:prstGeom>
          <a:solidFill>
            <a:srgbClr val="fbfc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 - 1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43280" y="2852640"/>
            <a:ext cx="3504960" cy="3505320"/>
            <a:chOff x="2843280" y="2852640"/>
            <a:chExt cx="3504960" cy="35053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2843280" y="2852640"/>
              <a:ext cx="35049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3924360" y="4869000"/>
              <a:ext cx="216000" cy="44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6d3a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 Cyr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6d3a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 Cyr"/>
                <a:ea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I -</a:t>
            </a: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1, V -</a:t>
            </a: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5, X - 10, </a:t>
            </a: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L - 50,</a:t>
            </a:r>
            <a:r>
              <a:rPr b="1" lang="ru-RU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 C - 100, D - 500, M - 1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6360" y="765000"/>
            <a:ext cx="86407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  <a:ea typeface="Times New Roman"/>
              </a:rPr>
              <a:t>XXI   LXVIII   LXXIX    DCXIV   MMC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8928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XX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51460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LXVII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17196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LXXI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1960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DCXIV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5788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MMCCL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890720"/>
            <a:ext cx="44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10 + 10 + 1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514600"/>
            <a:ext cx="41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50 + 10 + 8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17016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50 + 10 + 10 + 9 = 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3819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500 + 100 + 10 + 4 = 6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560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bfcd0"/>
                </a:solidFill>
                <a:latin typeface="Arial"/>
                <a:ea typeface="Times New Roman"/>
              </a:rPr>
              <a:t>1000 + 1000 +100 + 100 + 50 = 2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4f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56000" y="2060640"/>
            <a:ext cx="374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fcd0"/>
                </a:solidFill>
                <a:latin typeface="Times New Roman Cyr"/>
              </a:rPr>
              <a:t>Чем еще отличаются записи чисел правого и левого столбцов кроме того, что в левом столбце они сделаны арабскими цифрами, а в правом – римск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27000" y="172872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235440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2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27000" y="301140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3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7000" y="365904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4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7000" y="4297320"/>
            <a:ext cx="19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5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789200"/>
            <a:ext cx="19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C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414520"/>
            <a:ext cx="19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CCX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30718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CCCXXX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3719520"/>
            <a:ext cx="19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CDX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72360" y="4357800"/>
            <a:ext cx="19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fdcf"/>
                </a:solidFill>
                <a:latin typeface="Arial"/>
                <a:ea typeface="Times New Roman"/>
              </a:rPr>
              <a:t>D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200800" cy="542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I -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1, V -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5, X - 10,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L - 50,</a:t>
            </a:r>
            <a:r>
              <a:rPr b="1" lang="ru-RU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 C - 100, D - 500, M - 1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19640" y="1773360"/>
            <a:ext cx="175248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Boston"/>
              </a:rPr>
              <a:t>?</a:t>
            </a:r>
            <a:endParaRPr b="1" lang="en-US" sz="1800" spc="1" strike="noStrike">
              <a:ln w="284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Boston"/>
              <a:ea typeface="Boston"/>
            </a:endParaRPr>
          </a:p>
        </p:txBody>
      </p:sp>
      <p:sp>
        <p:nvSpPr>
          <p:cNvPr id="106" name=""/>
          <p:cNvSpPr/>
          <p:nvPr/>
        </p:nvSpPr>
        <p:spPr>
          <a:xfrm>
            <a:off x="1195560" y="5407200"/>
            <a:ext cx="6524280" cy="542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Times New Roman"/>
              </a:rPr>
              <a:t>555 = 500 + 50 + 5 = 5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• 100 + 5 • 10 +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85840" y="6126120"/>
            <a:ext cx="4695840" cy="542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8000"/>
                </a:solidFill>
                <a:latin typeface="Times New Roman"/>
              </a:rPr>
              <a:t>Сумма разрядных слагаем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cd0"/>
                </a:solidFill>
                <a:latin typeface="Arial Narrow"/>
              </a:rPr>
              <a:t>У</a:t>
            </a:r>
            <a:r>
              <a:rPr b="1" lang="en-US" sz="2400" spc="-1" strike="noStrike">
                <a:solidFill>
                  <a:srgbClr val="fbfcd0"/>
                </a:solidFill>
                <a:latin typeface="Arial Narrow"/>
              </a:rPr>
              <a:t> 1</a:t>
            </a:r>
            <a:r>
              <a:rPr b="1" lang="ru-RU" sz="2400" spc="-1" strike="noStrike">
                <a:solidFill>
                  <a:srgbClr val="fbfcd0"/>
                </a:solidFill>
                <a:latin typeface="Arial Narrow"/>
              </a:rPr>
              <a:t>. Запишите, пользуясь римской нумерацией дан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2b4f34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cd0"/>
                </a:solidFill>
                <a:latin typeface="Arial Narrow"/>
              </a:rPr>
              <a:t>У</a:t>
            </a:r>
            <a:r>
              <a:rPr b="1" lang="en-US" sz="2400" spc="-1" strike="noStrike">
                <a:solidFill>
                  <a:srgbClr val="fbfcd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bfcd0"/>
                </a:solidFill>
                <a:latin typeface="Arial Narrow"/>
              </a:rPr>
              <a:t>2. Прочитайте числа, записанные в таблице разрядов. Запишите их, оставляя промежутки между классами.</a:t>
            </a:r>
            <a:r>
              <a:rPr b="1" lang="en-US" sz="2400" spc="-1" strike="noStrike">
                <a:solidFill>
                  <a:srgbClr val="fbfcd0"/>
                </a:solidFill>
                <a:latin typeface="Arial Narro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280" y="2133720"/>
            <a:ext cx="7102800" cy="3201840"/>
            <a:chOff x="71280" y="2133720"/>
            <a:chExt cx="7102800" cy="3201840"/>
          </a:xfrm>
        </p:grpSpPr>
        <p:sp>
          <p:nvSpPr>
            <p:cNvPr id="111" name=""/>
            <p:cNvSpPr/>
            <p:nvPr/>
          </p:nvSpPr>
          <p:spPr>
            <a:xfrm>
              <a:off x="1515960" y="2135160"/>
              <a:ext cx="139860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752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5264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7760" y="3936960"/>
              <a:ext cx="4633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6200" y="3936960"/>
              <a:ext cx="46368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752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2640" y="3936960"/>
              <a:ext cx="4633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1596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988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7500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012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0524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70360" y="3936960"/>
              <a:ext cx="46368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3404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9916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428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9400" y="393696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240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752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5264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7760" y="4388040"/>
              <a:ext cx="4633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46200" y="4388040"/>
              <a:ext cx="4636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752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52640" y="4388040"/>
              <a:ext cx="4633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1596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988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7500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012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0524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0360" y="4388040"/>
              <a:ext cx="4636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3404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9916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6428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29400" y="438804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240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752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264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17760" y="48373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108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46200" y="48373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752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52640" y="48373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1596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0988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500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4012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0524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0360" y="48373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404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9916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6428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4837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40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7520" y="30355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50840" y="3035520"/>
              <a:ext cx="4669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7760" y="30355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46200" y="30355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7520" y="30355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50840" y="3035520"/>
              <a:ext cx="4669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7760" y="30355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9880" y="3035520"/>
              <a:ext cx="46656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76440" y="30355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4012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0524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7036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35480" y="30355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916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6428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30355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240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7520" y="348624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0840" y="3486240"/>
              <a:ext cx="4669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7760" y="348624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108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46200" y="348624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7520" y="348624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0840" y="3486240"/>
              <a:ext cx="4669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17760" y="348624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09880" y="3486240"/>
              <a:ext cx="46656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76440" y="348624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4012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524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7036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35480" y="348624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9916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428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48624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7360" y="2135160"/>
              <a:ext cx="140508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8440" y="2133720"/>
              <a:ext cx="1400040" cy="900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0560" y="2135160"/>
              <a:ext cx="140652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00600" y="2135160"/>
              <a:ext cx="139716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280" y="2168640"/>
              <a:ext cx="150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триллио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68440" y="2181240"/>
              <a:ext cx="150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миллиар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74960" y="2181240"/>
              <a:ext cx="150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миллио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32240" y="2168640"/>
              <a:ext cx="134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тыся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8160" y="2168640"/>
              <a:ext cx="150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едини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80" y="302436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400" y="303552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41480" y="303552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77800" y="302436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3280" y="3035520"/>
              <a:ext cx="6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48000" y="303552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65600" y="302436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30720" y="3035520"/>
              <a:ext cx="6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35440" y="303552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2120" y="302436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37240" y="303552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41960" y="303552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48400" y="302436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4960" y="303552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0040" y="303552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04920" y="3581640"/>
              <a:ext cx="563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9120" y="344808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2                           4          8   5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4200" y="3886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9    5   4               3          5   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73200" y="435636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8    3   1                     8  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9440" y="4815000"/>
              <a:ext cx="703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6    3    9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086600" y="2133720"/>
            <a:ext cx="2057400" cy="3155760"/>
            <a:chOff x="7086600" y="2133720"/>
            <a:chExt cx="2057400" cy="3155760"/>
          </a:xfrm>
        </p:grpSpPr>
        <p:sp>
          <p:nvSpPr>
            <p:cNvPr id="232" name=""/>
            <p:cNvSpPr/>
            <p:nvPr/>
          </p:nvSpPr>
          <p:spPr>
            <a:xfrm>
              <a:off x="7086600" y="2133720"/>
              <a:ext cx="2057400" cy="31557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cc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6600" y="2133720"/>
              <a:ext cx="2050920" cy="13521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cc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620120" y="2286000"/>
              <a:ext cx="939600" cy="1032480"/>
              <a:chOff x="7620120" y="2286000"/>
              <a:chExt cx="939600" cy="1032480"/>
            </a:xfrm>
          </p:grpSpPr>
          <p:sp>
            <p:nvSpPr>
              <p:cNvPr id="235" name=""/>
              <p:cNvSpPr txBox="1"/>
              <p:nvPr/>
            </p:nvSpPr>
            <p:spPr>
              <a:xfrm>
                <a:off x="7620120" y="2286000"/>
                <a:ext cx="892080" cy="3488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проверь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7621560" y="2971080"/>
                <a:ext cx="892080" cy="347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с е б 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39200" y="2361960"/>
                <a:ext cx="920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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7765560" y="3505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 004 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86600" y="3952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954 003 057 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64240" y="44100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831 000 82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99200" y="4881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63  900 000 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0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270560" y="320976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1fdcf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0 100 040 005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59000" y="36576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58 203 771 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4600" y="41292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953 310 012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72760" y="50418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2 110 330 7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26800" y="548640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9 000 903 581 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00560" y="59436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f1fdcf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03</a:t>
            </a:r>
            <a:r>
              <a:rPr b="1" lang="ru-RU" sz="1800" spc="-1" strike="noStrike">
                <a:solidFill>
                  <a:srgbClr val="f1fdcf"/>
                </a:solidFill>
                <a:latin typeface="Arial Narrow"/>
              </a:rPr>
              <a:t> 0</a:t>
            </a: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1</a:t>
            </a:r>
            <a:r>
              <a:rPr b="1" lang="ru-RU" sz="1800" spc="-1" strike="noStrike">
                <a:solidFill>
                  <a:srgbClr val="f1fdcf"/>
                </a:solidFill>
                <a:latin typeface="Arial Narrow"/>
              </a:rPr>
              <a:t>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884160"/>
            <a:ext cx="8610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рочитайте числа, из таблицы разрядов и запишите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2000" y="1828800"/>
            <a:ext cx="7102440" cy="4494240"/>
            <a:chOff x="162000" y="1828800"/>
            <a:chExt cx="7102440" cy="4494240"/>
          </a:xfrm>
        </p:grpSpPr>
        <p:sp>
          <p:nvSpPr>
            <p:cNvPr id="250" name=""/>
            <p:cNvSpPr/>
            <p:nvPr/>
          </p:nvSpPr>
          <p:spPr>
            <a:xfrm>
              <a:off x="1606680" y="1830240"/>
              <a:ext cx="139860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76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788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4300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8120" y="3632040"/>
              <a:ext cx="46368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7180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36920" y="3632040"/>
              <a:ext cx="4633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88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3632040"/>
              <a:ext cx="46368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0668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0024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6536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0480" y="3632040"/>
              <a:ext cx="46548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9596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61080" y="3632040"/>
              <a:ext cx="4633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2440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8952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5464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19760" y="3632040"/>
              <a:ext cx="465120" cy="45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76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788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4300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8120" y="4083120"/>
              <a:ext cx="4636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7180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36920" y="4083120"/>
              <a:ext cx="4633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788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3000" y="4083120"/>
              <a:ext cx="4636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0668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0024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6536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30480" y="4083120"/>
              <a:ext cx="4654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596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61080" y="4083120"/>
              <a:ext cx="4633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2440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8952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5464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19760" y="40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76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88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4300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8120" y="453240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180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36920" y="453240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788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43000" y="453240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668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0024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6536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30480" y="4532400"/>
              <a:ext cx="4654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9596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61080" y="453240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2440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8952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5464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19760" y="45324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276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788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8120" y="4983120"/>
              <a:ext cx="4636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7180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36920" y="4983120"/>
              <a:ext cx="4633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788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43000" y="4983120"/>
              <a:ext cx="4636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0668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0024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6536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30480" y="4983120"/>
              <a:ext cx="46548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9596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61080" y="4983120"/>
              <a:ext cx="4633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2440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5464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19760" y="4983120"/>
              <a:ext cx="465120" cy="449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212760" y="5432400"/>
              <a:ext cx="6971760" cy="452520"/>
              <a:chOff x="212760" y="5432400"/>
              <a:chExt cx="6971760" cy="452520"/>
            </a:xfrm>
          </p:grpSpPr>
          <p:sp>
            <p:nvSpPr>
              <p:cNvPr id="324" name=""/>
              <p:cNvSpPr/>
              <p:nvPr/>
            </p:nvSpPr>
            <p:spPr>
              <a:xfrm>
                <a:off x="21276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752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4264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7760" y="543240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7144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36560" y="543240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752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42640" y="543240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60632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00024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6536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3048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39560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60720" y="543240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2440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8952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5464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9760" y="543240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1276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7880" y="273060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1560" y="2730600"/>
              <a:ext cx="46656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08120" y="273060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7180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6920" y="273060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7880" y="273060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1560" y="2730600"/>
              <a:ext cx="46656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08120" y="273060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00240" y="2730600"/>
              <a:ext cx="4669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7160" y="273060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30480" y="2730600"/>
              <a:ext cx="4654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9596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6108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26200" y="273060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8952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5464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19760" y="273060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276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7880" y="31813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1560" y="3181320"/>
              <a:ext cx="46656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8120" y="31813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7180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36920" y="31813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7880" y="31813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41560" y="3181320"/>
              <a:ext cx="46656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8120" y="3181320"/>
              <a:ext cx="4636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00240" y="3181320"/>
              <a:ext cx="4669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7160" y="31813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0480" y="3181320"/>
              <a:ext cx="46548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9596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6108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26200" y="3181320"/>
              <a:ext cx="4633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8952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19760" y="3181320"/>
              <a:ext cx="465120" cy="45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080" y="1830240"/>
              <a:ext cx="140472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98800" y="1828800"/>
              <a:ext cx="1400040" cy="900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90920" y="1830240"/>
              <a:ext cx="140652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91320" y="1830240"/>
              <a:ext cx="1396800" cy="90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2000" y="1863720"/>
              <a:ext cx="150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триллио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58800" y="1876320"/>
              <a:ext cx="150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миллиар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65320" y="1876320"/>
              <a:ext cx="150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миллион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22600" y="1863720"/>
              <a:ext cx="134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тыся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08520" y="1863720"/>
              <a:ext cx="1505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Класс едини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2000" y="271944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7120" y="27306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31840" y="2730600"/>
              <a:ext cx="55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520" y="271944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33640" y="27306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38360" y="2730600"/>
              <a:ext cx="55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55960" y="27194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1080" y="27306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25800" y="273060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62480" y="271944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27600" y="27306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32320" y="273060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38760" y="271944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со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05680" y="2730600"/>
              <a:ext cx="6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 Narrow"/>
                </a:rPr>
                <a:t>де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10400" y="273060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е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12760" y="5870520"/>
              <a:ext cx="6971760" cy="452520"/>
              <a:chOff x="212760" y="5870520"/>
              <a:chExt cx="6971760" cy="452520"/>
            </a:xfrm>
          </p:grpSpPr>
          <p:sp>
            <p:nvSpPr>
              <p:cNvPr id="403" name=""/>
              <p:cNvSpPr/>
              <p:nvPr/>
            </p:nvSpPr>
            <p:spPr>
              <a:xfrm>
                <a:off x="21276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752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4264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07760" y="587052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7144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36560" y="587052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752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42640" y="587052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60632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0024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6536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048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9560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60720" y="5870520"/>
                <a:ext cx="46332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32440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78952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464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19760" y="5870520"/>
                <a:ext cx="464760" cy="452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1295280" y="32767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314316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  1                     4                     5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133720" y="3610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    8    2         3    7   7    1    6   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63560" y="405144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    5    3    3   1               1    2    2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189920" y="45864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fdcf"/>
                </a:solidFill>
                <a:latin typeface="Arial Narrow"/>
              </a:rPr>
              <a:t>244 078 055 508 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0160" y="4510080"/>
            <a:ext cx="70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4    4         7    8         5    5    5         8    8         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0160" y="4967280"/>
            <a:ext cx="70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    1   1          3    3         7    3   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9520" y="5400720"/>
            <a:ext cx="70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                     9         3    5    8   1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0160" y="586728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         3          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308720" y="184464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fcd0"/>
                </a:solidFill>
                <a:latin typeface="Arial"/>
              </a:rPr>
              <a:t>Проверьте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11592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fcd0"/>
                </a:solidFill>
                <a:latin typeface="Arial"/>
              </a:rPr>
              <a:t>Самостоятельная работа с самопровер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75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75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75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75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75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16:09Z</dcterms:created>
  <dc:creator>Irina</dc:creator>
  <dc:description/>
  <dc:language>en-US</dc:language>
  <cp:lastModifiedBy>Valery</cp:lastModifiedBy>
  <dcterms:modified xsi:type="dcterms:W3CDTF">2008-01-28T13:51:40Z</dcterms:modified>
  <cp:revision>6</cp:revision>
  <dc:subject/>
  <dc:title>Слайд 1</dc:title>
</cp:coreProperties>
</file>